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BFE-D629-4330-999B-8575C4A7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C38F-B274-46C9-90A4-16145ABD4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5A8-61B5-4091-9DCF-6F031BB5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530-DBF7-4974-84A1-6653B930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22D2-51FF-4A76-87FF-F6E4A2FA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6E2-DB25-430A-A777-F5CBBDBC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3A2-252F-4161-BE09-06A3272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AF75-47C4-45AD-A2A4-7537FA9B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449-C210-48E6-B3BD-9A23D9B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9FC-AE9E-4467-AF47-FCEBCEB4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4F7-3C8F-4E15-8AC0-DFC277DE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C5A-F76A-47D8-BCFC-68401B1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A75-4DED-4272-A8C2-37E1A1B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253-1CB1-4EC1-A19F-5F82DFD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08E-EB4C-432D-95E8-622AFC22B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Mo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Mont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Monte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Mont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114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Gabriela Yo vivo en Nueva York. Tengo catorce años. Tengo dos herma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0472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i gracias muc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Lesle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 amiga? Quieres comer con mi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133720" y="4492800"/>
            <a:ext cx="457200" cy="639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amigas buenos dias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Ros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09960" y="51753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Gabri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Ro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 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40:53Z</dcterms:created>
  <dc:creator>FriscoISD</dc:creator>
  <dc:description/>
  <dc:language>en-US</dc:language>
  <cp:lastModifiedBy>NYCDOE</cp:lastModifiedBy>
  <dcterms:modified xsi:type="dcterms:W3CDTF">2012-12-07T15:01:26Z</dcterms:modified>
  <cp:revision>107</cp:revision>
  <dc:subject/>
  <dc:title>Profile</dc:title>
</cp:coreProperties>
</file>